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7BC-7338-4060-9754-2674E103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0E1-B4DD-44F0-9586-0261CDB7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AB5-2F69-4531-B40E-702B27CE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99F-1EE5-4767-88E1-590C317D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B135-74E9-482F-B513-2B539FA2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8CDC-135E-4CA5-BE2E-B6F4C7E5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18FC-54C8-4D0C-9BF4-6C1C54CE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C38D-216B-4053-838A-11415948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066E-894A-49AC-BBE4-BE264132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BB6B-E44D-4097-AEA2-6F3DDCFE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5691-944C-45BE-A76E-FCC9DE8B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4F0-25C9-453E-8E52-7E20B86E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E54D-116F-41C7-A331-BC426B8E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7785-BFF6-4582-AE87-48196343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6C0E-BECF-407E-8DEA-573F5603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F18B-8220-4DA8-ADE3-5F536FE5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F22B-F136-4326-B37D-CA0CF2E0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50DCA-CB15-4F7E-A909-8E8CF49B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F772A-5844-4773-ABA3-3F542168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59563-550A-4234-81B2-2C92F76A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0E90-3346-4D42-A36E-2F658735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B8E0C-8C9F-4A91-955E-EA21D319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C21-F160-46D1-BD73-3851B8C9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F6C85-E01F-4FE2-8C61-25A3844F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546F-1FC0-4610-95AC-1E6A5CD7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DBC0B-62E4-4303-8794-5F8C5C2F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A5623-E9EF-4C5F-9113-4A22DBA0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892F5-C8C3-49B6-AF0F-AA505B11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A71C7-23B9-4241-B0EF-BED99690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661AF-4D4C-468F-A9B2-B65517DF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9641C-6975-47EC-880B-CCD6105D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A6C0-BCC2-4DCE-90A9-3C35CBBA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18683-559A-48DD-B9B8-EE8623FA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1AA-7C24-4794-A815-7CA2BE61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D0CF4-83A4-43DF-A436-1BB900A7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7E434-1DAC-4704-B285-96D23AE2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C3567-E074-4C58-A987-5F698CD7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0F24F-DB0C-4A65-B87E-BD1A4478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A69CD-DF13-4440-A8CE-A484A1CD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5B266-167F-42E1-877A-629F05FD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2B50D-6BDD-40A0-839B-BD789CC1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76D7F-794B-47B6-859A-00685C95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C9413-3B86-4DA8-815E-CD7CE89C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BE088-574C-4B0E-AD29-4F7CD348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168-4E6D-4382-BB99-F0A04891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505E3-0201-47A9-AE29-238B00E9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26C3D-962C-4486-B44F-7D72D01A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F30EE-6176-4F40-8E2A-20ACBBF2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6C75E-F00B-4EA3-9A8D-9216FD44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42AC1-C176-4E45-AE14-EA3F4440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93E3D-E12A-44D4-AE6C-4A40AEBF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CB81C-0D60-4D4A-8233-B532F13D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368EB-6A15-414D-81CA-69F1B22E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4B99B-E389-4BE9-9312-BC1CEC7C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F73CD-DE9D-4D17-A08A-89E59789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748-5958-4A25-BE49-02712911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9FE2F-C104-4650-B920-DA2F7AEB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E8CBF-F614-4D9C-86DB-D167B0E1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1547D-2B4D-464A-A83D-FBE0A39F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C83EE-1E9A-4848-9D78-13D2DAC3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DD808-838A-4952-9E08-9BA204A6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F9F96-9C14-4C60-9B69-1558C120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F3FA2-AC45-4196-BCB4-6624861F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2A9ED-75EF-413D-9C05-459A3B3C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182D9-04DA-4B9C-8F46-BD759046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CC6C0-9869-4F42-BC8A-15593D02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A3AA-981A-4A06-9E88-B3BF8748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CC16E-645E-4E11-9BB7-7A99A3DB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84C6F-9B2E-4C98-BAF3-7D4749F3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B05F0-E42C-4423-8B22-28FF313C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F1F-B8FD-4E37-97BE-E79EFE50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BDB-CA81-429E-A109-308D959B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ADC1-D7A0-4D94-ADDF-E80B424F12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7353-0250-4A07-AAD8-A7267CA301F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18BF-F83A-40FA-9EA6-FB5C55BAB7F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F96C-C719-4270-A918-9C0E38B1FE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1763-6E31-431C-9113-54F8B1C8B4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CF4A-C48E-4CBE-AAEF-D831DC181ED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" Target="slide5.xml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6.xml"/><Relationship Id="rId3" Type="http://schemas.openxmlformats.org/officeDocument/2006/relationships/slide" Target="slide17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23.xml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7.xml"/><Relationship Id="rId4" Type="http://schemas.openxmlformats.org/officeDocument/2006/relationships/image" Target="../media/image14.png"/><Relationship Id="rId5" Type="http://schemas.openxmlformats.org/officeDocument/2006/relationships/slide" Target="slide8.xml"/><Relationship Id="rId6" Type="http://schemas.openxmlformats.org/officeDocument/2006/relationships/slide" Target="slide5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6.xm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Dreptunghi 3" descr=""/>
          <p:cNvPicPr/>
          <p:nvPr/>
        </p:nvPicPr>
        <p:blipFill>
          <a:blip r:embed="rId1"/>
          <a:stretch/>
        </p:blipFill>
        <p:spPr>
          <a:xfrm>
            <a:off x="2322360" y="4041720"/>
            <a:ext cx="4889520" cy="1816200"/>
          </a:xfrm>
          <a:prstGeom prst="rect">
            <a:avLst/>
          </a:prstGeom>
          <a:ln w="0">
            <a:noFill/>
          </a:ln>
        </p:spPr>
      </p:pic>
      <p:pic>
        <p:nvPicPr>
          <p:cNvPr id="257" name="Dreptunghi 5" descr=""/>
          <p:cNvPicPr/>
          <p:nvPr/>
        </p:nvPicPr>
        <p:blipFill>
          <a:blip r:embed="rId2"/>
          <a:stretch/>
        </p:blipFill>
        <p:spPr>
          <a:xfrm>
            <a:off x="706320" y="2073240"/>
            <a:ext cx="794412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2428920" y="2286000"/>
            <a:ext cx="4648320" cy="2467080"/>
          </a:xfrm>
          <a:prstGeom prst="rect">
            <a:avLst/>
          </a:prstGeom>
          <a:ln w="0">
            <a:noFill/>
          </a:ln>
        </p:spPr>
      </p:pic>
      <p:cxnSp>
        <p:nvCxnSpPr>
          <p:cNvPr id="352" name="Conector drept cu săgeată 5"/>
          <p:cNvCxnSpPr/>
          <p:nvPr/>
        </p:nvCxnSpPr>
        <p:spPr>
          <a:xfrm>
            <a:off x="1856880" y="2143080"/>
            <a:ext cx="786600" cy="64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3" name="CasetăText 6"/>
          <p:cNvSpPr/>
          <p:nvPr/>
        </p:nvSpPr>
        <p:spPr>
          <a:xfrm>
            <a:off x="357120" y="171468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ătre o pagină din cadrul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Conector drept cu săgeată 8"/>
          <p:cNvCxnSpPr/>
          <p:nvPr/>
        </p:nvCxnSpPr>
        <p:spPr>
          <a:xfrm flipV="1">
            <a:off x="1928880" y="2928240"/>
            <a:ext cx="7149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5" name="CasetăText 9"/>
          <p:cNvSpPr/>
          <p:nvPr/>
        </p:nvSpPr>
        <p:spPr>
          <a:xfrm>
            <a:off x="428760" y="3000240"/>
            <a:ext cx="142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ătre o pagină extern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Conector drept cu săgeată 11"/>
          <p:cNvCxnSpPr/>
          <p:nvPr/>
        </p:nvCxnSpPr>
        <p:spPr>
          <a:xfrm flipV="1">
            <a:off x="1784880" y="3214080"/>
            <a:ext cx="85788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7" name="CasetăText 12"/>
          <p:cNvSpPr/>
          <p:nvPr/>
        </p:nvSpPr>
        <p:spPr>
          <a:xfrm>
            <a:off x="285840" y="428616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egătură în pagina curen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ăgeată la stânga 15">
            <a:hlinkClick r:id="rId2" action="ppaction://hlinksldjump"/>
          </p:cNvPr>
          <p:cNvSpPr/>
          <p:nvPr/>
        </p:nvSpPr>
        <p:spPr>
          <a:xfrm>
            <a:off x="5286240" y="5357880"/>
            <a:ext cx="1357560" cy="571320"/>
          </a:xfrm>
          <a:prstGeom prst="lef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947960" y="1928880"/>
            <a:ext cx="5325840" cy="3633840"/>
          </a:xfrm>
          <a:prstGeom prst="rect">
            <a:avLst/>
          </a:prstGeom>
          <a:ln w="0">
            <a:noFill/>
          </a:ln>
        </p:spPr>
      </p:pic>
      <p:sp>
        <p:nvSpPr>
          <p:cNvPr id="360" name="Conector drept 8"/>
          <p:cNvSpPr/>
          <p:nvPr/>
        </p:nvSpPr>
        <p:spPr>
          <a:xfrm flipH="1" flipV="1">
            <a:off x="5857920" y="2357280"/>
            <a:ext cx="1928880" cy="857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asetăText 10"/>
          <p:cNvSpPr/>
          <p:nvPr/>
        </p:nvSpPr>
        <p:spPr>
          <a:xfrm>
            <a:off x="7858080" y="32860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dăug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onector drept 13"/>
          <p:cNvSpPr/>
          <p:nvPr/>
        </p:nvSpPr>
        <p:spPr>
          <a:xfrm flipV="1">
            <a:off x="4357800" y="3357360"/>
            <a:ext cx="3429000" cy="221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ăgeată la stânga 14">
            <a:hlinkClick r:id="rId2" action="ppaction://hlinksldjump"/>
          </p:cNvPr>
          <p:cNvSpPr/>
          <p:nvPr/>
        </p:nvSpPr>
        <p:spPr>
          <a:xfrm>
            <a:off x="500040" y="500076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4929120" cy="3036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2"/>
          <a:stretch/>
        </p:blipFill>
        <p:spPr>
          <a:xfrm>
            <a:off x="4071960" y="2286000"/>
            <a:ext cx="4624200" cy="3962520"/>
          </a:xfrm>
          <a:prstGeom prst="rect">
            <a:avLst/>
          </a:prstGeom>
          <a:ln w="0">
            <a:noFill/>
          </a:ln>
        </p:spPr>
      </p:pic>
      <p:sp>
        <p:nvSpPr>
          <p:cNvPr id="366" name="Conector drept 7"/>
          <p:cNvSpPr/>
          <p:nvPr/>
        </p:nvSpPr>
        <p:spPr>
          <a:xfrm flipV="1">
            <a:off x="1500120" y="3429000"/>
            <a:ext cx="357120" cy="1928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onector drept 9"/>
          <p:cNvSpPr/>
          <p:nvPr/>
        </p:nvSpPr>
        <p:spPr>
          <a:xfrm flipV="1">
            <a:off x="3643200" y="4857480"/>
            <a:ext cx="200052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asetăText 10"/>
          <p:cNvSpPr/>
          <p:nvPr/>
        </p:nvSpPr>
        <p:spPr>
          <a:xfrm>
            <a:off x="2714760" y="52149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onector drept 14"/>
          <p:cNvSpPr/>
          <p:nvPr/>
        </p:nvSpPr>
        <p:spPr>
          <a:xfrm>
            <a:off x="2286000" y="5929200"/>
            <a:ext cx="2071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setăText 15"/>
          <p:cNvSpPr/>
          <p:nvPr/>
        </p:nvSpPr>
        <p:spPr>
          <a:xfrm>
            <a:off x="1143000" y="550080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 emb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ăgeată la stânga 22">
            <a:hlinkClick r:id="rId3" action="ppaction://hlinksldjump"/>
          </p:cNvPr>
          <p:cNvSpPr/>
          <p:nvPr/>
        </p:nvSpPr>
        <p:spPr>
          <a:xfrm>
            <a:off x="357120" y="5072040"/>
            <a:ext cx="71460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4344840" cy="3259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4357800" y="3357720"/>
            <a:ext cx="3600360" cy="2852640"/>
          </a:xfrm>
          <a:prstGeom prst="rect">
            <a:avLst/>
          </a:prstGeom>
          <a:ln w="0">
            <a:noFill/>
          </a:ln>
        </p:spPr>
      </p:pic>
      <p:cxnSp>
        <p:nvCxnSpPr>
          <p:cNvPr id="374" name="Conector drept cu săgeată 7"/>
          <p:cNvCxnSpPr/>
          <p:nvPr/>
        </p:nvCxnSpPr>
        <p:spPr>
          <a:xfrm flipH="1" flipV="1">
            <a:off x="3571560" y="2214360"/>
            <a:ext cx="192960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5" name="CasetăText 8"/>
          <p:cNvSpPr/>
          <p:nvPr/>
        </p:nvSpPr>
        <p:spPr>
          <a:xfrm>
            <a:off x="5572080" y="2357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Conector drept cu săgeată 9"/>
          <p:cNvCxnSpPr/>
          <p:nvPr/>
        </p:nvCxnSpPr>
        <p:spPr>
          <a:xfrm flipV="1">
            <a:off x="3499920" y="4214160"/>
            <a:ext cx="135828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7" name="CasetăText 10"/>
          <p:cNvSpPr/>
          <p:nvPr/>
        </p:nvSpPr>
        <p:spPr>
          <a:xfrm>
            <a:off x="1214280" y="528624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 Editare adrese 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Conector drept cu săgeată 14"/>
          <p:cNvCxnSpPr/>
          <p:nvPr/>
        </p:nvCxnSpPr>
        <p:spPr>
          <a:xfrm flipV="1">
            <a:off x="2999880" y="5428440"/>
            <a:ext cx="171540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9" name="CasetăText 15"/>
          <p:cNvSpPr/>
          <p:nvPr/>
        </p:nvSpPr>
        <p:spPr>
          <a:xfrm>
            <a:off x="3071880" y="59292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Dreptunghi 18" descr=""/>
          <p:cNvPicPr/>
          <p:nvPr/>
        </p:nvPicPr>
        <p:blipFill>
          <a:blip r:embed="rId3"/>
          <a:stretch/>
        </p:blipFill>
        <p:spPr>
          <a:xfrm>
            <a:off x="5602320" y="1560600"/>
            <a:ext cx="3548160" cy="1573200"/>
          </a:xfrm>
          <a:prstGeom prst="rect">
            <a:avLst/>
          </a:prstGeom>
          <a:ln w="0">
            <a:noFill/>
          </a:ln>
        </p:spPr>
      </p:pic>
      <p:sp>
        <p:nvSpPr>
          <p:cNvPr id="381" name="Săgeată la stânga 19">
            <a:hlinkClick r:id="rId4" action="ppaction://hlinksldjump"/>
          </p:cNvPr>
          <p:cNvSpPr/>
          <p:nvPr/>
        </p:nvSpPr>
        <p:spPr>
          <a:xfrm>
            <a:off x="500040" y="5786280"/>
            <a:ext cx="785880" cy="4287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000680" y="2143080"/>
            <a:ext cx="4844880" cy="3633840"/>
          </a:xfrm>
          <a:prstGeom prst="rect">
            <a:avLst/>
          </a:prstGeom>
          <a:ln w="0">
            <a:noFill/>
          </a:ln>
        </p:spPr>
      </p:pic>
      <p:cxnSp>
        <p:nvCxnSpPr>
          <p:cNvPr id="383" name="Conector drept cu săgeată 5"/>
          <p:cNvCxnSpPr/>
          <p:nvPr/>
        </p:nvCxnSpPr>
        <p:spPr>
          <a:xfrm>
            <a:off x="3071520" y="2071440"/>
            <a:ext cx="142956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4" name="CasetăText 6"/>
          <p:cNvSpPr/>
          <p:nvPr/>
        </p:nvSpPr>
        <p:spPr>
          <a:xfrm>
            <a:off x="214200" y="18572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Gestionare pa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Conector drept cu săgeată 7"/>
          <p:cNvCxnSpPr/>
          <p:nvPr/>
        </p:nvCxnSpPr>
        <p:spPr>
          <a:xfrm>
            <a:off x="3214440" y="2643120"/>
            <a:ext cx="17866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6" name="CasetăText 8"/>
          <p:cNvSpPr/>
          <p:nvPr/>
        </p:nvSpPr>
        <p:spPr>
          <a:xfrm>
            <a:off x="357120" y="2428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Gestion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onector drept cu săgeată 10"/>
          <p:cNvCxnSpPr/>
          <p:nvPr/>
        </p:nvCxnSpPr>
        <p:spPr>
          <a:xfrm>
            <a:off x="3286080" y="3500280"/>
            <a:ext cx="22867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8" name="CasetăText 11"/>
          <p:cNvSpPr/>
          <p:nvPr/>
        </p:nvSpPr>
        <p:spPr>
          <a:xfrm>
            <a:off x="428760" y="32860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dăugare memb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Conector drept cu săgeată 13"/>
          <p:cNvCxnSpPr/>
          <p:nvPr/>
        </p:nvCxnSpPr>
        <p:spPr>
          <a:xfrm flipV="1">
            <a:off x="3286080" y="4285800"/>
            <a:ext cx="128664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0" name="CasetăText 14"/>
          <p:cNvSpPr/>
          <p:nvPr/>
        </p:nvSpPr>
        <p:spPr>
          <a:xfrm>
            <a:off x="428760" y="4286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”Cosmetizare”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ăgeată la stânga 16"/>
          <p:cNvSpPr/>
          <p:nvPr/>
        </p:nvSpPr>
        <p:spPr>
          <a:xfrm>
            <a:off x="1357200" y="5143680"/>
            <a:ext cx="1143000" cy="57132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Conector drept cu săgeată 17"/>
          <p:cNvCxnSpPr/>
          <p:nvPr/>
        </p:nvCxnSpPr>
        <p:spPr>
          <a:xfrm flipV="1">
            <a:off x="3429000" y="3857400"/>
            <a:ext cx="1643760" cy="10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3" name="CasetăText 18"/>
          <p:cNvSpPr/>
          <p:nvPr/>
        </p:nvSpPr>
        <p:spPr>
          <a:xfrm>
            <a:off x="571680" y="4714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 Alte opti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14200" y="1999800"/>
            <a:ext cx="37864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9560" indent="567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P1 -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ntru a invita elevii sa-si creeze conturi pe site, ne vom conecta ca administrator al site-ului (accesam link-u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ign In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coltul dreapta-sus al ecranului) si apoi vom accesa link-u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anage Wik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respectiv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vite Peopl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4121280" y="3143160"/>
            <a:ext cx="4741560" cy="3033720"/>
          </a:xfrm>
          <a:prstGeom prst="rect">
            <a:avLst/>
          </a:prstGeom>
          <a:ln w="0">
            <a:noFill/>
          </a:ln>
        </p:spPr>
      </p:pic>
      <p:pic>
        <p:nvPicPr>
          <p:cNvPr id="396" name="Dreptunghi 6" descr=""/>
          <p:cNvPicPr/>
          <p:nvPr/>
        </p:nvPicPr>
        <p:blipFill>
          <a:blip r:embed="rId2"/>
          <a:stretch/>
        </p:blipFill>
        <p:spPr>
          <a:xfrm>
            <a:off x="5065560" y="1633680"/>
            <a:ext cx="3548160" cy="1566720"/>
          </a:xfrm>
          <a:prstGeom prst="rect">
            <a:avLst/>
          </a:prstGeom>
          <a:ln w="0">
            <a:noFill/>
          </a:ln>
        </p:spPr>
      </p:pic>
      <p:cxnSp>
        <p:nvCxnSpPr>
          <p:cNvPr id="397" name="Conector drept cu săgeată 8"/>
          <p:cNvCxnSpPr/>
          <p:nvPr/>
        </p:nvCxnSpPr>
        <p:spPr>
          <a:xfrm flipV="1">
            <a:off x="3142800" y="5357520"/>
            <a:ext cx="27867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2000160"/>
            <a:ext cx="42148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2 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ând în acest mod, vom obtine o fereastra în care vom completa dou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ubrici. În prima rubrica vom putea scrie, una sub alta, adresele de e-mail ale persoanelor pe care dorim sa le invitam pentru a deveni membri care vo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vea dreptul de a publica materiale pe site. În cea de a doua rubrica putem transmite un mesaj persoanelor invitate. În mod implicit cea de a dou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ubrica este completata cu un mesaj în limba englez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5000760" y="2571840"/>
            <a:ext cx="3600360" cy="2852640"/>
          </a:xfrm>
          <a:prstGeom prst="rect">
            <a:avLst/>
          </a:prstGeom>
          <a:ln w="0">
            <a:noFill/>
          </a:ln>
        </p:spPr>
      </p:pic>
      <p:sp>
        <p:nvSpPr>
          <p:cNvPr id="400" name="Săgeată la stânga 7"/>
          <p:cNvSpPr/>
          <p:nvPr/>
        </p:nvSpPr>
        <p:spPr>
          <a:xfrm>
            <a:off x="1643040" y="5429160"/>
            <a:ext cx="1285920" cy="5000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13840" y="2357280"/>
            <a:ext cx="4429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1.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actionând buton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vom putea vizualiza toate fisierele publicate pe si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2.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entru a publica un fisier,</a:t>
            </a: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om actiona butonul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Upload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3. Alegere fișier si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Add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 administrator avem posibilitatea sa stergem un anumit fisier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selectând-ul si apoi actionând butonul </a:t>
            </a: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5603760" y="1571760"/>
            <a:ext cx="3540240" cy="1571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4929120" y="3500280"/>
            <a:ext cx="3781440" cy="2835360"/>
          </a:xfrm>
          <a:prstGeom prst="rect">
            <a:avLst/>
          </a:prstGeom>
          <a:ln w="0">
            <a:noFill/>
          </a:ln>
        </p:spPr>
      </p:pic>
      <p:cxnSp>
        <p:nvCxnSpPr>
          <p:cNvPr id="404" name="Conector drept cu săgeată 8"/>
          <p:cNvCxnSpPr/>
          <p:nvPr/>
        </p:nvCxnSpPr>
        <p:spPr>
          <a:xfrm flipV="1">
            <a:off x="5429160" y="2071080"/>
            <a:ext cx="35784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5" name="CasetăText 9"/>
          <p:cNvSpPr/>
          <p:nvPr/>
        </p:nvSpPr>
        <p:spPr>
          <a:xfrm>
            <a:off x="4929120" y="22860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Conector drept cu săgeată 10"/>
          <p:cNvCxnSpPr>
            <a:stCxn id="407" idx="3"/>
          </p:cNvCxnSpPr>
          <p:nvPr/>
        </p:nvCxnSpPr>
        <p:spPr>
          <a:xfrm flipV="1">
            <a:off x="5572080" y="2928240"/>
            <a:ext cx="1286640" cy="18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7" name="CasetăText 11"/>
          <p:cNvSpPr/>
          <p:nvPr/>
        </p:nvSpPr>
        <p:spPr>
          <a:xfrm>
            <a:off x="5000760" y="29289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Dreptunghi 14" descr=""/>
          <p:cNvPicPr/>
          <p:nvPr/>
        </p:nvPicPr>
        <p:blipFill>
          <a:blip r:embed="rId3"/>
          <a:stretch/>
        </p:blipFill>
        <p:spPr>
          <a:xfrm>
            <a:off x="566640" y="1616040"/>
            <a:ext cx="3548160" cy="663480"/>
          </a:xfrm>
          <a:prstGeom prst="rect">
            <a:avLst/>
          </a:prstGeom>
          <a:ln w="0">
            <a:noFill/>
          </a:ln>
        </p:spPr>
      </p:pic>
      <p:cxnSp>
        <p:nvCxnSpPr>
          <p:cNvPr id="409" name="Conector drept cu săgeată 17"/>
          <p:cNvCxnSpPr/>
          <p:nvPr/>
        </p:nvCxnSpPr>
        <p:spPr>
          <a:xfrm flipV="1">
            <a:off x="4071600" y="4142880"/>
            <a:ext cx="2715480" cy="1858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214200" y="2500200"/>
            <a:ext cx="38577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ntru a încarca un fisier, în prealabil vom pozitiona cursorul pe zona de ecran în care dorim sa apara link-ul catre noul fisi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om actiona butonul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Calibri"/>
              </a:rPr>
              <a:t>P3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pa ce am precizat fisierul dorit, dam un click pe numel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cestu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4. 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egem optiunea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Sav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5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4091040" cy="2671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2"/>
          <a:stretch/>
        </p:blipFill>
        <p:spPr>
          <a:xfrm>
            <a:off x="4143240" y="4429080"/>
            <a:ext cx="4784760" cy="2028960"/>
          </a:xfrm>
          <a:prstGeom prst="rect">
            <a:avLst/>
          </a:prstGeom>
          <a:ln w="0">
            <a:noFill/>
          </a:ln>
        </p:spPr>
      </p:pic>
      <p:pic>
        <p:nvPicPr>
          <p:cNvPr id="413" name="Dreptunghi 7" descr=""/>
          <p:cNvPicPr/>
          <p:nvPr/>
        </p:nvPicPr>
        <p:blipFill>
          <a:blip r:embed="rId3"/>
          <a:stretch/>
        </p:blipFill>
        <p:spPr>
          <a:xfrm>
            <a:off x="566640" y="1616040"/>
            <a:ext cx="3548160" cy="968400"/>
          </a:xfrm>
          <a:prstGeom prst="rect">
            <a:avLst/>
          </a:prstGeom>
          <a:ln w="0">
            <a:noFill/>
          </a:ln>
        </p:spPr>
      </p:pic>
      <p:sp>
        <p:nvSpPr>
          <p:cNvPr id="414" name="Săgeată la stânga 8"/>
          <p:cNvSpPr/>
          <p:nvPr/>
        </p:nvSpPr>
        <p:spPr>
          <a:xfrm>
            <a:off x="1714680" y="5357880"/>
            <a:ext cx="1071360" cy="42840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2357280"/>
            <a:ext cx="4114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682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emplates, respectiv </a:t>
            </a:r>
            <a:r>
              <a:rPr b="1" i="1" lang="en-GB" sz="2500" spc="-1" strike="noStrike">
                <a:solidFill>
                  <a:srgbClr val="000000"/>
                </a:solidFill>
                <a:latin typeface="Calibri"/>
              </a:rPr>
              <a:t>Look and Feel: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prin actionarea acestor butoane vom avea posibilitatea sa personalizam aspectul site-ului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, prin schimbarea temei si a culorilor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(Themes and Color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sau adăugarea unui logo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(Log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429080" y="2000160"/>
            <a:ext cx="4521240" cy="3729240"/>
          </a:xfrm>
          <a:prstGeom prst="rect">
            <a:avLst/>
          </a:prstGeom>
          <a:ln w="0">
            <a:noFill/>
          </a:ln>
        </p:spPr>
      </p:pic>
      <p:pic>
        <p:nvPicPr>
          <p:cNvPr id="417" name="Dreptunghi 5" descr=""/>
          <p:cNvPicPr/>
          <p:nvPr/>
        </p:nvPicPr>
        <p:blipFill>
          <a:blip r:embed="rId2"/>
          <a:stretch/>
        </p:blipFill>
        <p:spPr>
          <a:xfrm>
            <a:off x="566640" y="1616040"/>
            <a:ext cx="3548160" cy="663480"/>
          </a:xfrm>
          <a:prstGeom prst="rect">
            <a:avLst/>
          </a:prstGeom>
          <a:ln w="0">
            <a:noFill/>
          </a:ln>
        </p:spPr>
      </p:pic>
      <p:cxnSp>
        <p:nvCxnSpPr>
          <p:cNvPr id="418" name="Conector drept cu săgeată 7"/>
          <p:cNvCxnSpPr/>
          <p:nvPr/>
        </p:nvCxnSpPr>
        <p:spPr>
          <a:xfrm flipV="1">
            <a:off x="4285800" y="2785680"/>
            <a:ext cx="15008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19" name="Conector drept cu săgeată 9"/>
          <p:cNvCxnSpPr/>
          <p:nvPr/>
        </p:nvCxnSpPr>
        <p:spPr>
          <a:xfrm flipV="1">
            <a:off x="4286160" y="4928400"/>
            <a:ext cx="3578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0" name="Săgeată la stânga 10"/>
          <p:cNvSpPr/>
          <p:nvPr/>
        </p:nvSpPr>
        <p:spPr>
          <a:xfrm>
            <a:off x="1428840" y="5500800"/>
            <a:ext cx="1571400" cy="5000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4845240" cy="3633840"/>
          </a:xfrm>
          <a:prstGeom prst="rect">
            <a:avLst/>
          </a:prstGeom>
          <a:ln w="0">
            <a:noFill/>
          </a:ln>
        </p:spPr>
      </p:pic>
      <p:pic>
        <p:nvPicPr>
          <p:cNvPr id="259" name="Dreptunghi 8" descr=""/>
          <p:cNvPicPr/>
          <p:nvPr/>
        </p:nvPicPr>
        <p:blipFill>
          <a:blip r:embed="rId2"/>
          <a:stretch/>
        </p:blipFill>
        <p:spPr>
          <a:xfrm>
            <a:off x="5456160" y="1560600"/>
            <a:ext cx="3840120" cy="1085760"/>
          </a:xfrm>
          <a:prstGeom prst="rect">
            <a:avLst/>
          </a:prstGeom>
          <a:ln w="0">
            <a:noFill/>
          </a:ln>
        </p:spPr>
      </p:pic>
      <p:cxnSp>
        <p:nvCxnSpPr>
          <p:cNvPr id="260" name="Conector drept cu săgeată 10"/>
          <p:cNvCxnSpPr/>
          <p:nvPr/>
        </p:nvCxnSpPr>
        <p:spPr>
          <a:xfrm flipV="1">
            <a:off x="214200" y="3785400"/>
            <a:ext cx="858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61" name="Picture 7" descr=""/>
          <p:cNvPicPr/>
          <p:nvPr/>
        </p:nvPicPr>
        <p:blipFill>
          <a:blip r:embed="rId3"/>
          <a:stretch/>
        </p:blipFill>
        <p:spPr>
          <a:xfrm>
            <a:off x="4357800" y="2714760"/>
            <a:ext cx="4357440" cy="3268440"/>
          </a:xfrm>
          <a:prstGeom prst="rect">
            <a:avLst/>
          </a:prstGeom>
          <a:ln w="0">
            <a:noFill/>
          </a:ln>
        </p:spPr>
      </p:pic>
      <p:cxnSp>
        <p:nvCxnSpPr>
          <p:cNvPr id="262" name="Conector drept cu săgeată 14"/>
          <p:cNvCxnSpPr/>
          <p:nvPr/>
        </p:nvCxnSpPr>
        <p:spPr>
          <a:xfrm flipV="1">
            <a:off x="4071960" y="3642480"/>
            <a:ext cx="100080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3" name="CasetăText 15"/>
          <p:cNvSpPr/>
          <p:nvPr/>
        </p:nvSpPr>
        <p:spPr>
          <a:xfrm>
            <a:off x="0" y="4214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asetăText 16"/>
          <p:cNvSpPr/>
          <p:nvPr/>
        </p:nvSpPr>
        <p:spPr>
          <a:xfrm>
            <a:off x="3786120" y="57862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4300560" cy="3406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4572000" y="2857680"/>
            <a:ext cx="3936960" cy="3238200"/>
          </a:xfrm>
          <a:prstGeom prst="rect">
            <a:avLst/>
          </a:prstGeom>
          <a:ln w="0">
            <a:noFill/>
          </a:ln>
        </p:spPr>
      </p:pic>
      <p:cxnSp>
        <p:nvCxnSpPr>
          <p:cNvPr id="423" name="Conector drept cu săgeată 7"/>
          <p:cNvCxnSpPr>
            <a:stCxn id="424" idx="3"/>
          </p:cNvCxnSpPr>
          <p:nvPr/>
        </p:nvCxnSpPr>
        <p:spPr>
          <a:xfrm flipV="1">
            <a:off x="1857240" y="3428640"/>
            <a:ext cx="858240" cy="1899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4" name="CasetăText 8"/>
          <p:cNvSpPr/>
          <p:nvPr/>
        </p:nvSpPr>
        <p:spPr>
          <a:xfrm>
            <a:off x="1357200" y="5143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Conector drept cu săgeată 9"/>
          <p:cNvCxnSpPr/>
          <p:nvPr/>
        </p:nvCxnSpPr>
        <p:spPr>
          <a:xfrm flipV="1">
            <a:off x="3928680" y="5142960"/>
            <a:ext cx="27867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6" name="CasetăText 10"/>
          <p:cNvSpPr/>
          <p:nvPr/>
        </p:nvSpPr>
        <p:spPr>
          <a:xfrm>
            <a:off x="3286080" y="53578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Conector drept cu săgeată 13"/>
          <p:cNvCxnSpPr/>
          <p:nvPr/>
        </p:nvCxnSpPr>
        <p:spPr>
          <a:xfrm flipV="1">
            <a:off x="4142880" y="5785560"/>
            <a:ext cx="30726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8" name="CasetăText 14"/>
          <p:cNvSpPr/>
          <p:nvPr/>
        </p:nvSpPr>
        <p:spPr>
          <a:xfrm>
            <a:off x="3643200" y="59292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ăgeată la stânga 17"/>
          <p:cNvSpPr/>
          <p:nvPr/>
        </p:nvSpPr>
        <p:spPr>
          <a:xfrm>
            <a:off x="1000080" y="5643720"/>
            <a:ext cx="1143000" cy="50004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1643040" y="1857240"/>
            <a:ext cx="5835600" cy="3633840"/>
          </a:xfrm>
          <a:prstGeom prst="rect">
            <a:avLst/>
          </a:prstGeom>
          <a:ln w="0">
            <a:noFill/>
          </a:ln>
        </p:spPr>
      </p:pic>
      <p:cxnSp>
        <p:nvCxnSpPr>
          <p:cNvPr id="431" name="Conector drept cu săgeată 5"/>
          <p:cNvCxnSpPr/>
          <p:nvPr/>
        </p:nvCxnSpPr>
        <p:spPr>
          <a:xfrm flipV="1">
            <a:off x="928440" y="521496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2" name="CasetăText 6"/>
          <p:cNvSpPr/>
          <p:nvPr/>
        </p:nvSpPr>
        <p:spPr>
          <a:xfrm>
            <a:off x="357120" y="5643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Conector drept cu săgeată 7"/>
          <p:cNvCxnSpPr/>
          <p:nvPr/>
        </p:nvCxnSpPr>
        <p:spPr>
          <a:xfrm flipV="1">
            <a:off x="1999800" y="399996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4" name="CasetăText 8"/>
          <p:cNvSpPr/>
          <p:nvPr/>
        </p:nvSpPr>
        <p:spPr>
          <a:xfrm>
            <a:off x="1428840" y="4429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Conector drept cu săgeată 9"/>
          <p:cNvCxnSpPr/>
          <p:nvPr/>
        </p:nvCxnSpPr>
        <p:spPr>
          <a:xfrm flipV="1">
            <a:off x="3642840" y="4714200"/>
            <a:ext cx="271548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6" name="CasetăText 10"/>
          <p:cNvSpPr/>
          <p:nvPr/>
        </p:nvSpPr>
        <p:spPr>
          <a:xfrm>
            <a:off x="3071880" y="5715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Conector drept cu săgeată 16"/>
          <p:cNvCxnSpPr/>
          <p:nvPr/>
        </p:nvCxnSpPr>
        <p:spPr>
          <a:xfrm>
            <a:off x="5072040" y="5500800"/>
            <a:ext cx="100080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8" name="CasetăText 17"/>
          <p:cNvSpPr/>
          <p:nvPr/>
        </p:nvSpPr>
        <p:spPr>
          <a:xfrm>
            <a:off x="6000840" y="5929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ăgeată la stânga 19"/>
          <p:cNvSpPr/>
          <p:nvPr/>
        </p:nvSpPr>
        <p:spPr>
          <a:xfrm>
            <a:off x="285840" y="3786120"/>
            <a:ext cx="857160" cy="35712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ermissio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etam dreptul de a edita fiecare pagina a site-ului.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upa cum spuneam, recomandam alegera optiunii 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Prot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accesând acest buton vom vizualiza membrii site-ulu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Dreptunghi 3" descr=""/>
          <p:cNvPicPr/>
          <p:nvPr/>
        </p:nvPicPr>
        <p:blipFill>
          <a:blip r:embed="rId1"/>
          <a:stretch/>
        </p:blipFill>
        <p:spPr>
          <a:xfrm>
            <a:off x="2706840" y="2170080"/>
            <a:ext cx="3547800" cy="798480"/>
          </a:xfrm>
          <a:prstGeom prst="rect">
            <a:avLst/>
          </a:prstGeom>
          <a:ln w="0">
            <a:noFill/>
          </a:ln>
        </p:spPr>
      </p:pic>
      <p:sp>
        <p:nvSpPr>
          <p:cNvPr id="442" name="Săgeată la stânga 4"/>
          <p:cNvSpPr/>
          <p:nvPr/>
        </p:nvSpPr>
        <p:spPr>
          <a:xfrm>
            <a:off x="4214880" y="571500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57120" y="2000160"/>
            <a:ext cx="4043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est tip de site ofera si posibilitatea schimbului de opinii si idei între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embrii comunitatii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Din pagina principala (Home) în partea superioara a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cranului avem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Discussio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500" spc="-1" strike="noStrike">
                <a:solidFill>
                  <a:srgbClr val="000000"/>
                </a:solidFill>
                <a:latin typeface="Calibri"/>
              </a:rPr>
              <a:t>P2.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cesând acest buton vom avea posibilitatea sa postam un mesaj nou sau sa raspundem la mesajele publicate </a:t>
            </a: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anterior. Acest lucru este foarte util. Utilizând aceasta facilitate avem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sibilitatea sa comunicam elevilor eventualele corectii necesare, elevii pot sa transmita opiniile lor referitoare la materialele colegilor. Pentru a citi un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numit mesaj vom da un simplu click pe titlu acestui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P3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upa ce am dat click pe un mesaj, pentru a-i raspunde vom completa casuta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Reply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si vom actiona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Post.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entru a reveni la lista de mesaje, vom actiona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Back to Discussion Forum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Dreptunghi 4" descr=""/>
          <p:cNvPicPr/>
          <p:nvPr/>
        </p:nvPicPr>
        <p:blipFill>
          <a:blip r:embed="rId1"/>
          <a:stretch/>
        </p:blipFill>
        <p:spPr>
          <a:xfrm>
            <a:off x="566640" y="1542960"/>
            <a:ext cx="3548160" cy="663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"/>
          <p:cNvPicPr/>
          <p:nvPr/>
        </p:nvPicPr>
        <p:blipFill>
          <a:blip r:embed="rId2"/>
          <a:stretch/>
        </p:blipFill>
        <p:spPr>
          <a:xfrm>
            <a:off x="4643280" y="1643040"/>
            <a:ext cx="4291200" cy="2441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3"/>
          <a:stretch/>
        </p:blipFill>
        <p:spPr>
          <a:xfrm>
            <a:off x="5072040" y="3214800"/>
            <a:ext cx="340992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http://mstina.files.wordpress.com/2007/11/wiki.jpg"/>
          <p:cNvPicPr/>
          <p:nvPr/>
        </p:nvPicPr>
        <p:blipFill>
          <a:blip r:embed="rId1"/>
          <a:stretch/>
        </p:blipFill>
        <p:spPr>
          <a:xfrm>
            <a:off x="2000160" y="3643200"/>
            <a:ext cx="4962600" cy="2190960"/>
          </a:xfrm>
          <a:prstGeom prst="rect">
            <a:avLst/>
          </a:prstGeom>
          <a:ln w="0">
            <a:noFill/>
          </a:ln>
        </p:spPr>
      </p:pic>
      <p:pic>
        <p:nvPicPr>
          <p:cNvPr id="448" name="Dreptunghi 6" descr=""/>
          <p:cNvPicPr/>
          <p:nvPr/>
        </p:nvPicPr>
        <p:blipFill>
          <a:blip r:embed="rId2"/>
          <a:stretch/>
        </p:blipFill>
        <p:spPr>
          <a:xfrm>
            <a:off x="853920" y="1974960"/>
            <a:ext cx="72964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4484520" cy="3633840"/>
          </a:xfrm>
          <a:prstGeom prst="rect">
            <a:avLst/>
          </a:prstGeom>
          <a:ln w="0">
            <a:noFill/>
          </a:ln>
        </p:spPr>
      </p:pic>
      <p:pic>
        <p:nvPicPr>
          <p:cNvPr id="266" name="Dreptunghi 5" descr=""/>
          <p:cNvPicPr/>
          <p:nvPr/>
        </p:nvPicPr>
        <p:blipFill>
          <a:blip r:embed="rId2"/>
          <a:stretch/>
        </p:blipFill>
        <p:spPr>
          <a:xfrm>
            <a:off x="5456160" y="1633680"/>
            <a:ext cx="3840120" cy="1079280"/>
          </a:xfrm>
          <a:prstGeom prst="rect">
            <a:avLst/>
          </a:prstGeom>
          <a:ln w="0">
            <a:noFill/>
          </a:ln>
        </p:spPr>
      </p:pic>
      <p:cxnSp>
        <p:nvCxnSpPr>
          <p:cNvPr id="267" name="Conector drept cu săgeată 6"/>
          <p:cNvCxnSpPr/>
          <p:nvPr/>
        </p:nvCxnSpPr>
        <p:spPr>
          <a:xfrm flipV="1">
            <a:off x="428400" y="3214440"/>
            <a:ext cx="8578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8" name="CasetăText 7"/>
          <p:cNvSpPr/>
          <p:nvPr/>
        </p:nvSpPr>
        <p:spPr>
          <a:xfrm>
            <a:off x="214200" y="3714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Conector drept cu săgeată 8"/>
          <p:cNvCxnSpPr/>
          <p:nvPr/>
        </p:nvCxnSpPr>
        <p:spPr>
          <a:xfrm flipV="1">
            <a:off x="428400" y="3571200"/>
            <a:ext cx="8578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0" name="CasetăText 9"/>
          <p:cNvSpPr/>
          <p:nvPr/>
        </p:nvSpPr>
        <p:spPr>
          <a:xfrm>
            <a:off x="214200" y="40006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Conector drept cu săgeată 10"/>
          <p:cNvCxnSpPr/>
          <p:nvPr/>
        </p:nvCxnSpPr>
        <p:spPr>
          <a:xfrm flipV="1">
            <a:off x="428400" y="3928320"/>
            <a:ext cx="8578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2" name="CasetăText 11"/>
          <p:cNvSpPr/>
          <p:nvPr/>
        </p:nvSpPr>
        <p:spPr>
          <a:xfrm>
            <a:off x="214200" y="4357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Conector drept cu săgeată 14"/>
          <p:cNvCxnSpPr/>
          <p:nvPr/>
        </p:nvCxnSpPr>
        <p:spPr>
          <a:xfrm flipH="1" flipV="1">
            <a:off x="4357080" y="3214440"/>
            <a:ext cx="178668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4" name="CasetăText 15"/>
          <p:cNvSpPr/>
          <p:nvPr/>
        </p:nvSpPr>
        <p:spPr>
          <a:xfrm>
            <a:off x="5929200" y="3929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Conector drept cu săgeată 22"/>
          <p:cNvCxnSpPr/>
          <p:nvPr/>
        </p:nvCxnSpPr>
        <p:spPr>
          <a:xfrm flipV="1">
            <a:off x="499680" y="5143320"/>
            <a:ext cx="8578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6" name="CasetăText 23"/>
          <p:cNvSpPr/>
          <p:nvPr/>
        </p:nvSpPr>
        <p:spPr>
          <a:xfrm>
            <a:off x="285840" y="5572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57120" y="2286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comandam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ăstrare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ptiunilor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tected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- implicită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bifarea opțiuni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prin care certificam utilizarea în scopuri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ducationale a site-ului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ducational Use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aca vom lasa bifata optiune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ublic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atunci orice persoana care va vizita site-ul va ave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sibilitatea sa publice materialele sale. Acest lucru nu este de dorit, deoarece putem fi vizitati si de persoane rau intetion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egând optiunea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tected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ar acei vizitatori care obtin acordul nostru vor avea dreptul de a publica materi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pa ce s-au completat datele solicitate, vom vizualiza deja site-ul nou creat. Pentru a personaliza pagina de întâmpinare (home), vom actiona butonul EDIT. Aceasta optiune va fi disponibila doar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ntru cei care au solicitat crearea unui cont, iar realizatorul site-ului 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probat acest lucr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Dreptunghi 4" descr=""/>
          <p:cNvPicPr/>
          <p:nvPr/>
        </p:nvPicPr>
        <p:blipFill>
          <a:blip r:embed="rId1"/>
          <a:stretch/>
        </p:blipFill>
        <p:spPr>
          <a:xfrm>
            <a:off x="1511280" y="1560600"/>
            <a:ext cx="61387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4844880" cy="3633480"/>
          </a:xfrm>
          <a:prstGeom prst="rect">
            <a:avLst/>
          </a:prstGeom>
          <a:ln w="0">
            <a:noFill/>
          </a:ln>
        </p:spPr>
      </p:pic>
      <p:pic>
        <p:nvPicPr>
          <p:cNvPr id="280" name="Dreptunghi 4" descr=""/>
          <p:cNvPicPr/>
          <p:nvPr/>
        </p:nvPicPr>
        <p:blipFill>
          <a:blip r:embed="rId2"/>
          <a:stretch/>
        </p:blipFill>
        <p:spPr>
          <a:xfrm>
            <a:off x="5492880" y="1560600"/>
            <a:ext cx="3767040" cy="1085760"/>
          </a:xfrm>
          <a:prstGeom prst="rect">
            <a:avLst/>
          </a:prstGeom>
          <a:ln w="0">
            <a:noFill/>
          </a:ln>
        </p:spPr>
      </p:pic>
      <p:sp>
        <p:nvSpPr>
          <p:cNvPr id="281" name="Conector drept 5"/>
          <p:cNvSpPr/>
          <p:nvPr/>
        </p:nvSpPr>
        <p:spPr>
          <a:xfrm>
            <a:off x="3071880" y="2786040"/>
            <a:ext cx="2714400" cy="186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7"/>
          <p:cNvSpPr/>
          <p:nvPr/>
        </p:nvSpPr>
        <p:spPr>
          <a:xfrm>
            <a:off x="5786280" y="450072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ditar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onector drept 8"/>
          <p:cNvSpPr/>
          <p:nvPr/>
        </p:nvSpPr>
        <p:spPr>
          <a:xfrm>
            <a:off x="4786200" y="3071880"/>
            <a:ext cx="100008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setăText 9"/>
          <p:cNvSpPr/>
          <p:nvPr/>
        </p:nvSpPr>
        <p:spPr>
          <a:xfrm>
            <a:off x="5929200" y="31431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Inserare pagina și fiși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onector drept 15"/>
          <p:cNvSpPr/>
          <p:nvPr/>
        </p:nvSpPr>
        <p:spPr>
          <a:xfrm>
            <a:off x="4643280" y="3143160"/>
            <a:ext cx="10004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asetăText 16"/>
          <p:cNvSpPr/>
          <p:nvPr/>
        </p:nvSpPr>
        <p:spPr>
          <a:xfrm>
            <a:off x="5786280" y="364320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Adăugare membr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onector drept 19"/>
          <p:cNvSpPr/>
          <p:nvPr/>
        </p:nvSpPr>
        <p:spPr>
          <a:xfrm>
            <a:off x="4714920" y="3357720"/>
            <a:ext cx="100008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asetăText 20"/>
          <p:cNvSpPr/>
          <p:nvPr/>
        </p:nvSpPr>
        <p:spPr>
          <a:xfrm>
            <a:off x="5786280" y="4000680"/>
            <a:ext cx="18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Gestionare ele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nector drept 22"/>
          <p:cNvSpPr/>
          <p:nvPr/>
        </p:nvSpPr>
        <p:spPr>
          <a:xfrm>
            <a:off x="3286080" y="2786040"/>
            <a:ext cx="2643120" cy="258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asetăText 23"/>
          <p:cNvSpPr/>
          <p:nvPr/>
        </p:nvSpPr>
        <p:spPr>
          <a:xfrm>
            <a:off x="5929200" y="5214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iscuț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Dreptunghi 3" descr=""/>
          <p:cNvPicPr/>
          <p:nvPr/>
        </p:nvPicPr>
        <p:blipFill>
          <a:blip r:embed="rId1"/>
          <a:stretch/>
        </p:blipFill>
        <p:spPr>
          <a:xfrm>
            <a:off x="5602320" y="1420920"/>
            <a:ext cx="3548160" cy="1566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4845240" cy="3633840"/>
          </a:xfrm>
          <a:prstGeom prst="rect">
            <a:avLst/>
          </a:prstGeom>
          <a:ln w="0">
            <a:noFill/>
          </a:ln>
        </p:spPr>
      </p:pic>
      <p:cxnSp>
        <p:nvCxnSpPr>
          <p:cNvPr id="293" name="Conector drept cu săgeată 6"/>
          <p:cNvCxnSpPr/>
          <p:nvPr/>
        </p:nvCxnSpPr>
        <p:spPr>
          <a:xfrm>
            <a:off x="2500200" y="2214720"/>
            <a:ext cx="292968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4" name="CasetăText 9"/>
          <p:cNvSpPr/>
          <p:nvPr/>
        </p:nvSpPr>
        <p:spPr>
          <a:xfrm>
            <a:off x="5429160" y="21430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Conector drept cu săgeată 11"/>
          <p:cNvCxnSpPr/>
          <p:nvPr/>
        </p:nvCxnSpPr>
        <p:spPr>
          <a:xfrm flipH="1" flipV="1">
            <a:off x="2928600" y="2856960"/>
            <a:ext cx="235800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6" name="CasetăText 12"/>
          <p:cNvSpPr/>
          <p:nvPr/>
        </p:nvSpPr>
        <p:spPr>
          <a:xfrm>
            <a:off x="5286240" y="2857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 Editare nume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Conector drept cu săgeată 13"/>
          <p:cNvCxnSpPr/>
          <p:nvPr/>
        </p:nvCxnSpPr>
        <p:spPr>
          <a:xfrm>
            <a:off x="2143080" y="3642840"/>
            <a:ext cx="32868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8" name="CasetăText 14"/>
          <p:cNvSpPr/>
          <p:nvPr/>
        </p:nvSpPr>
        <p:spPr>
          <a:xfrm>
            <a:off x="5357880" y="35719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3571920" y="4214880"/>
            <a:ext cx="4821120" cy="2143080"/>
          </a:xfrm>
          <a:prstGeom prst="rect">
            <a:avLst/>
          </a:prstGeom>
          <a:ln w="0">
            <a:noFill/>
          </a:ln>
        </p:spPr>
      </p:pic>
      <p:cxnSp>
        <p:nvCxnSpPr>
          <p:cNvPr id="300" name="Conector drept cu săgeată 23"/>
          <p:cNvCxnSpPr/>
          <p:nvPr/>
        </p:nvCxnSpPr>
        <p:spPr>
          <a:xfrm flipH="1">
            <a:off x="5500080" y="4928040"/>
            <a:ext cx="2215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1" name="CasetăText 24"/>
          <p:cNvSpPr/>
          <p:nvPr/>
        </p:nvSpPr>
        <p:spPr>
          <a:xfrm>
            <a:off x="4000680" y="52149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P4 Editare și s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ăgeată la stânga 29">
            <a:hlinkClick r:id="rId6" action="ppaction://hlinksldjump"/>
          </p:cNvPr>
          <p:cNvSpPr/>
          <p:nvPr/>
        </p:nvSpPr>
        <p:spPr>
          <a:xfrm>
            <a:off x="928800" y="5715000"/>
            <a:ext cx="1285920" cy="5000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642600" y="2642760"/>
            <a:ext cx="8015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in actionarea butonului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New Pag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ecranului vom putea crea o noua 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gin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2 - 3.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Imediat dupa actionarea butonului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New Page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vom completa numele acesteia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i vom alege optiunea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Crea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4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upa aceea se va deschide fereastra de editare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 noii pagini. Aici putem scrie texte sau încarca fisie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aca dorim putem sterge o astfel de pagina. Pentru acest lucru, din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Manage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Wiki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ctiunea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Content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om alege actiona butonul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Pages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poi vom bifa pagina pe care dorim sa o stergem si actionam butonul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Dreptunghi 5" descr=""/>
          <p:cNvPicPr/>
          <p:nvPr/>
        </p:nvPicPr>
        <p:blipFill>
          <a:blip r:embed="rId1"/>
          <a:stretch/>
        </p:blipFill>
        <p:spPr>
          <a:xfrm>
            <a:off x="2139840" y="1560600"/>
            <a:ext cx="5010120" cy="1085760"/>
          </a:xfrm>
          <a:prstGeom prst="rect">
            <a:avLst/>
          </a:prstGeom>
          <a:ln w="0">
            <a:noFill/>
          </a:ln>
        </p:spPr>
      </p:pic>
      <p:sp>
        <p:nvSpPr>
          <p:cNvPr id="305" name="Săgeată la stânga 6">
            <a:hlinkClick r:id="rId2" action="ppaction://hlinksldjump"/>
          </p:cNvPr>
          <p:cNvSpPr/>
          <p:nvPr/>
        </p:nvSpPr>
        <p:spPr>
          <a:xfrm>
            <a:off x="4000680" y="5643720"/>
            <a:ext cx="1285560" cy="5000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7643880" cy="723600"/>
          </a:xfrm>
          <a:prstGeom prst="rect">
            <a:avLst/>
          </a:prstGeom>
          <a:ln w="0">
            <a:noFill/>
          </a:ln>
        </p:spPr>
      </p:pic>
      <p:sp>
        <p:nvSpPr>
          <p:cNvPr id="307" name="Acoladă stânga 5"/>
          <p:cNvSpPr/>
          <p:nvPr/>
        </p:nvSpPr>
        <p:spPr>
          <a:xfrm rot="16200000">
            <a:off x="588960" y="2982960"/>
            <a:ext cx="822240" cy="428400"/>
          </a:xfrm>
          <a:custGeom>
            <a:avLst/>
            <a:gdLst>
              <a:gd name="textAreaLeft" fmla="*/ 525240 w 822240"/>
              <a:gd name="textAreaRight" fmla="*/ 822600 w 8222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asetăText 6"/>
          <p:cNvSpPr/>
          <p:nvPr/>
        </p:nvSpPr>
        <p:spPr>
          <a:xfrm>
            <a:off x="71424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drept 8"/>
          <p:cNvSpPr/>
          <p:nvPr/>
        </p:nvSpPr>
        <p:spPr>
          <a:xfrm flipV="1">
            <a:off x="1499400" y="285768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ector drept 10"/>
          <p:cNvSpPr/>
          <p:nvPr/>
        </p:nvSpPr>
        <p:spPr>
          <a:xfrm flipV="1">
            <a:off x="207180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asetăText 11"/>
          <p:cNvSpPr/>
          <p:nvPr/>
        </p:nvSpPr>
        <p:spPr>
          <a:xfrm>
            <a:off x="1857240" y="3500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onector drept 12"/>
          <p:cNvSpPr/>
          <p:nvPr/>
        </p:nvSpPr>
        <p:spPr>
          <a:xfrm flipV="1">
            <a:off x="357192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asetăText 13"/>
          <p:cNvSpPr/>
          <p:nvPr/>
        </p:nvSpPr>
        <p:spPr>
          <a:xfrm>
            <a:off x="3357720" y="3571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nector drept 14"/>
          <p:cNvSpPr/>
          <p:nvPr/>
        </p:nvSpPr>
        <p:spPr>
          <a:xfrm flipV="1">
            <a:off x="400068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asetăText 15"/>
          <p:cNvSpPr/>
          <p:nvPr/>
        </p:nvSpPr>
        <p:spPr>
          <a:xfrm>
            <a:off x="385776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onector drept 16"/>
          <p:cNvSpPr/>
          <p:nvPr/>
        </p:nvSpPr>
        <p:spPr>
          <a:xfrm flipV="1">
            <a:off x="4500720" y="292896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asetăText 17"/>
          <p:cNvSpPr/>
          <p:nvPr/>
        </p:nvSpPr>
        <p:spPr>
          <a:xfrm>
            <a:off x="435780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asetăText 19"/>
          <p:cNvSpPr/>
          <p:nvPr/>
        </p:nvSpPr>
        <p:spPr>
          <a:xfrm>
            <a:off x="1285920" y="3571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onector drept 20"/>
          <p:cNvSpPr/>
          <p:nvPr/>
        </p:nvSpPr>
        <p:spPr>
          <a:xfrm flipV="1">
            <a:off x="5571360" y="285768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asetăText 21"/>
          <p:cNvSpPr/>
          <p:nvPr/>
        </p:nvSpPr>
        <p:spPr>
          <a:xfrm>
            <a:off x="542916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coladă stânga 27"/>
          <p:cNvSpPr/>
          <p:nvPr/>
        </p:nvSpPr>
        <p:spPr>
          <a:xfrm rot="16200000">
            <a:off x="2517840" y="2982960"/>
            <a:ext cx="822240" cy="428400"/>
          </a:xfrm>
          <a:custGeom>
            <a:avLst/>
            <a:gdLst>
              <a:gd name="textAreaLeft" fmla="*/ 525240 w 822240"/>
              <a:gd name="textAreaRight" fmla="*/ 822600 w 8222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CasetăText 28"/>
          <p:cNvSpPr/>
          <p:nvPr/>
        </p:nvSpPr>
        <p:spPr>
          <a:xfrm>
            <a:off x="257184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onector drept 29"/>
          <p:cNvSpPr/>
          <p:nvPr/>
        </p:nvSpPr>
        <p:spPr>
          <a:xfrm flipV="1">
            <a:off x="507204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asetăText 30"/>
          <p:cNvSpPr/>
          <p:nvPr/>
        </p:nvSpPr>
        <p:spPr>
          <a:xfrm>
            <a:off x="492912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coladă stânga 31"/>
          <p:cNvSpPr/>
          <p:nvPr/>
        </p:nvSpPr>
        <p:spPr>
          <a:xfrm rot="16200000">
            <a:off x="6946920" y="2411280"/>
            <a:ext cx="822240" cy="1571760"/>
          </a:xfrm>
          <a:custGeom>
            <a:avLst/>
            <a:gdLst>
              <a:gd name="textAreaLeft" fmla="*/ 525240 w 822240"/>
              <a:gd name="textAreaRight" fmla="*/ 822600 w 822240"/>
              <a:gd name="textAreaTop" fmla="*/ 72360 h 1571760"/>
              <a:gd name="textAreaBottom" fmla="*/ 14994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6"/>
                  <a:pt x="10800" y="3191"/>
                </a:cubicBezTo>
                <a:lnTo>
                  <a:pt x="10800" y="7609"/>
                </a:lnTo>
                <a:cubicBezTo>
                  <a:pt x="10800" y="9205"/>
                  <a:pt x="5400" y="10800"/>
                  <a:pt x="0" y="10800"/>
                </a:cubicBezTo>
                <a:cubicBezTo>
                  <a:pt x="5400" y="10800"/>
                  <a:pt x="10800" y="12396"/>
                  <a:pt x="10800" y="13991"/>
                </a:cubicBezTo>
                <a:lnTo>
                  <a:pt x="10800" y="18409"/>
                </a:lnTo>
                <a:cubicBezTo>
                  <a:pt x="10800" y="200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asetăText 32"/>
          <p:cNvSpPr/>
          <p:nvPr/>
        </p:nvSpPr>
        <p:spPr>
          <a:xfrm>
            <a:off x="707220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Dreptunghi 33" descr=""/>
          <p:cNvPicPr/>
          <p:nvPr/>
        </p:nvPicPr>
        <p:blipFill>
          <a:blip r:embed="rId2"/>
          <a:stretch/>
        </p:blipFill>
        <p:spPr>
          <a:xfrm>
            <a:off x="2981160" y="1670040"/>
            <a:ext cx="3668760" cy="798480"/>
          </a:xfrm>
          <a:prstGeom prst="rect">
            <a:avLst/>
          </a:prstGeom>
          <a:ln w="0">
            <a:noFill/>
          </a:ln>
        </p:spPr>
      </p:pic>
      <p:sp>
        <p:nvSpPr>
          <p:cNvPr id="328" name="CasetăText 34"/>
          <p:cNvSpPr/>
          <p:nvPr/>
        </p:nvSpPr>
        <p:spPr>
          <a:xfrm>
            <a:off x="642960" y="4071960"/>
            <a:ext cx="3714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Scris îngroșat, înclinat, sublin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. Formatar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Normal, heading 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marcatori, linie orizont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 Adaugare link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Adăug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Adăugare widget-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asetăText 35"/>
          <p:cNvSpPr/>
          <p:nvPr/>
        </p:nvSpPr>
        <p:spPr>
          <a:xfrm>
            <a:off x="4786200" y="414324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. Adăugare t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. Adăugare comenta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. Previzulizare, Cancel și sal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ăgeată la stânga 36">
            <a:hlinkClick r:id="rId7" action="ppaction://hlinksldjump"/>
          </p:cNvPr>
          <p:cNvSpPr/>
          <p:nvPr/>
        </p:nvSpPr>
        <p:spPr>
          <a:xfrm>
            <a:off x="6643800" y="5572080"/>
            <a:ext cx="1357200" cy="571680"/>
          </a:xfrm>
          <a:prstGeom prst="left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5643720" cy="3429000"/>
          </a:xfrm>
          <a:prstGeom prst="rect">
            <a:avLst/>
          </a:prstGeom>
          <a:ln w="0">
            <a:noFill/>
          </a:ln>
        </p:spPr>
      </p:pic>
      <p:sp>
        <p:nvSpPr>
          <p:cNvPr id="332" name="Conector drept 5"/>
          <p:cNvSpPr/>
          <p:nvPr/>
        </p:nvSpPr>
        <p:spPr>
          <a:xfrm flipV="1">
            <a:off x="3929040" y="2112840"/>
            <a:ext cx="3143160" cy="387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asetăText 6"/>
          <p:cNvSpPr/>
          <p:nvPr/>
        </p:nvSpPr>
        <p:spPr>
          <a:xfrm>
            <a:off x="7072200" y="19288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ip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onector drept 9"/>
          <p:cNvSpPr/>
          <p:nvPr/>
        </p:nvSpPr>
        <p:spPr>
          <a:xfrm flipV="1">
            <a:off x="4000680" y="2571840"/>
            <a:ext cx="307152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asetăText 10"/>
          <p:cNvSpPr/>
          <p:nvPr/>
        </p:nvSpPr>
        <p:spPr>
          <a:xfrm>
            <a:off x="7215120" y="24289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mensiune 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ector drept 11"/>
          <p:cNvSpPr/>
          <p:nvPr/>
        </p:nvSpPr>
        <p:spPr>
          <a:xfrm flipV="1">
            <a:off x="3929040" y="3071880"/>
            <a:ext cx="300024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asetăText 12"/>
          <p:cNvSpPr/>
          <p:nvPr/>
        </p:nvSpPr>
        <p:spPr>
          <a:xfrm>
            <a:off x="7143840" y="28576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loar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nector drept 13"/>
          <p:cNvSpPr/>
          <p:nvPr/>
        </p:nvSpPr>
        <p:spPr>
          <a:xfrm flipV="1">
            <a:off x="3786120" y="3429000"/>
            <a:ext cx="300060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asetăText 14"/>
          <p:cNvSpPr/>
          <p:nvPr/>
        </p:nvSpPr>
        <p:spPr>
          <a:xfrm>
            <a:off x="685800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ckground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onector drept 15"/>
          <p:cNvSpPr/>
          <p:nvPr/>
        </p:nvSpPr>
        <p:spPr>
          <a:xfrm>
            <a:off x="3500280" y="3786120"/>
            <a:ext cx="3071880" cy="2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asetăText 16"/>
          <p:cNvSpPr/>
          <p:nvPr/>
        </p:nvSpPr>
        <p:spPr>
          <a:xfrm>
            <a:off x="6786720" y="37148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inier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ector drept 18"/>
          <p:cNvSpPr/>
          <p:nvPr/>
        </p:nvSpPr>
        <p:spPr>
          <a:xfrm>
            <a:off x="3643200" y="4143240"/>
            <a:ext cx="342900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asetăText 19"/>
          <p:cNvSpPr/>
          <p:nvPr/>
        </p:nvSpPr>
        <p:spPr>
          <a:xfrm>
            <a:off x="7286760" y="421488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dice, 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Conector drept 21"/>
          <p:cNvSpPr/>
          <p:nvPr/>
        </p:nvSpPr>
        <p:spPr>
          <a:xfrm>
            <a:off x="3357720" y="4429080"/>
            <a:ext cx="364320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asetăText 22"/>
          <p:cNvSpPr/>
          <p:nvPr/>
        </p:nvSpPr>
        <p:spPr>
          <a:xfrm>
            <a:off x="7143840" y="5000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 taiat cu o l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onector drept 24"/>
          <p:cNvSpPr/>
          <p:nvPr/>
        </p:nvSpPr>
        <p:spPr>
          <a:xfrm>
            <a:off x="2643120" y="4786200"/>
            <a:ext cx="1928880" cy="1214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asetăText 25"/>
          <p:cNvSpPr/>
          <p:nvPr/>
        </p:nvSpPr>
        <p:spPr>
          <a:xfrm>
            <a:off x="4572000" y="5786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evizuali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onector drept 27"/>
          <p:cNvSpPr/>
          <p:nvPr/>
        </p:nvSpPr>
        <p:spPr>
          <a:xfrm>
            <a:off x="5429160" y="521496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asetăText 28"/>
          <p:cNvSpPr/>
          <p:nvPr/>
        </p:nvSpPr>
        <p:spPr>
          <a:xfrm>
            <a:off x="7072200" y="5857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alvare se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ăgeată la stânga 33">
            <a:hlinkClick r:id="rId2" action="ppaction://hlinksldjump"/>
          </p:cNvPr>
          <p:cNvSpPr/>
          <p:nvPr/>
        </p:nvSpPr>
        <p:spPr>
          <a:xfrm>
            <a:off x="785880" y="5715000"/>
            <a:ext cx="1214280" cy="35712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3:06:08Z</dcterms:created>
  <dc:creator>Radu</dc:creator>
  <dc:description/>
  <dc:language>en-US</dc:language>
  <cp:lastModifiedBy>user</cp:lastModifiedBy>
  <dcterms:modified xsi:type="dcterms:W3CDTF">2012-03-12T11:23:04Z</dcterms:modified>
  <cp:revision>49</cp:revision>
  <dc:subject/>
  <dc:title>III. UTILIZAREA AVANSATA A INTERNETULUI ÎN PROCESUL DE PREDARE</dc:title>
</cp:coreProperties>
</file>